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A3A-E710-4EA5-B083-9E44ECF8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774-3AD0-4CE5-B4B2-81B6DDF7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9AD-3979-44E5-B5B4-FE1BB63B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A99-4020-46B4-8765-146EBD73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E6C3-1BD8-4A00-9568-71D050ED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96CD-5563-4F05-BCB0-44BF184E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24E3-EA6C-4AE4-BBF9-A72A8934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48AA-ECF3-4BB6-ABF4-9639D835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C739-4A14-4956-8B05-695BD923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0DA7-8371-4196-A7F1-689332CD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5906-273E-467F-9C50-E9C145CA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894-6604-4D89-A206-FBEAEEB5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5668-5EB1-4CE5-9C63-B3504506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9735-DFD6-497D-9505-AEA1C18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B699-6F41-4C19-829C-D86D3FF4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DA87-A8A5-4638-B6DC-9E80FB91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2C83-113B-4DC7-8248-6E00AACD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454-02F2-4F03-91F0-17DD57DA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355-D542-469B-B036-ED1571FB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ECC-FEF8-4B65-B770-50CBB490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A80-6D34-444D-93D5-20114061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579-C247-48CF-9496-2A21A15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27C-2067-424D-803A-2B0BA504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641-A898-4DBA-A085-CAE9FD6C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F74D-DB33-4529-9175-A406185FCF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D5C9-CEF2-4641-8643-FC8F474AD4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arket Failure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in Video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u Co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iolence in Videogam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56000" y="2205000"/>
            <a:ext cx="46083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rket Failure Grap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916280"/>
            <a:ext cx="0" cy="38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84360" y="580536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276640"/>
            <a:ext cx="3527280" cy="3240000"/>
          </a:xfrm>
          <a:custGeom>
            <a:avLst/>
            <a:gdLst/>
            <a:ahLst/>
            <a:rect l="l" t="t" r="r" b="b"/>
            <a:pathLst>
              <a:path w="2222" h="2041">
                <a:moveTo>
                  <a:pt x="0" y="2041"/>
                </a:moveTo>
                <a:cubicBezTo>
                  <a:pt x="232" y="1910"/>
                  <a:pt x="1022" y="1594"/>
                  <a:pt x="1392" y="1254"/>
                </a:cubicBezTo>
                <a:cubicBezTo>
                  <a:pt x="1762" y="914"/>
                  <a:pt x="2049" y="261"/>
                  <a:pt x="222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65400" y="1871640"/>
            <a:ext cx="3597480" cy="3233880"/>
          </a:xfrm>
          <a:custGeom>
            <a:avLst/>
            <a:gdLst/>
            <a:ahLst/>
            <a:rect l="l" t="t" r="r" b="b"/>
            <a:pathLst>
              <a:path w="2266" h="2037">
                <a:moveTo>
                  <a:pt x="0" y="0"/>
                </a:moveTo>
                <a:cubicBezTo>
                  <a:pt x="147" y="199"/>
                  <a:pt x="507" y="855"/>
                  <a:pt x="885" y="1194"/>
                </a:cubicBezTo>
                <a:cubicBezTo>
                  <a:pt x="1263" y="1533"/>
                  <a:pt x="1978" y="1862"/>
                  <a:pt x="2266" y="20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25560" y="2293920"/>
            <a:ext cx="3646800" cy="3222720"/>
          </a:xfrm>
          <a:custGeom>
            <a:avLst/>
            <a:gdLst/>
            <a:ahLst/>
            <a:rect l="l" t="t" r="r" b="b"/>
            <a:pathLst>
              <a:path w="2297" h="2030">
                <a:moveTo>
                  <a:pt x="0" y="0"/>
                </a:moveTo>
                <a:cubicBezTo>
                  <a:pt x="141" y="192"/>
                  <a:pt x="460" y="814"/>
                  <a:pt x="843" y="1152"/>
                </a:cubicBezTo>
                <a:cubicBezTo>
                  <a:pt x="1226" y="1490"/>
                  <a:pt x="1994" y="1847"/>
                  <a:pt x="2297" y="20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50864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484000" y="4508640"/>
            <a:ext cx="208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149720"/>
            <a:ext cx="0" cy="165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84360" y="4149720"/>
            <a:ext cx="2519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71640" y="5661000"/>
            <a:ext cx="431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4149720"/>
            <a:ext cx="0" cy="358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2060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P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53737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S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573408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5734080"/>
            <a:ext cx="64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Q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0920" y="40053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Pf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3657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066920" y="3716280"/>
            <a:ext cx="360360" cy="433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03640" y="4149720"/>
            <a:ext cx="0" cy="6476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859280" y="41497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4005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Dead Weigh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is it Market Failur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 of videogames only consider their own private costs and benefits of consumption, so there is over-consumption at (Qf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n other consumers caused by videogames is considered to be negative, therefore the socially desirable level of videogames is (Q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ree market there is over-consumption of videogames as external cost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g. hospital bills caused by violence stimulated from videog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 are not considered, which causes dead-weight lo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 shown in the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and therefore there is market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6:39:41Z</dcterms:created>
  <dc:creator>Radu Costin</dc:creator>
  <dc:description/>
  <dc:language>en-US</dc:language>
  <cp:lastModifiedBy>Radu Costin</cp:lastModifiedBy>
  <dcterms:modified xsi:type="dcterms:W3CDTF">2008-07-20T19:34:26Z</dcterms:modified>
  <cp:revision>5</cp:revision>
  <dc:subject/>
  <dc:title>Market Failure </dc:title>
</cp:coreProperties>
</file>